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067F-71AE-4846-B4FA-EB561128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2E27-926B-40E4-81B6-A15BED11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1CC7-6437-484F-8B34-C3E90288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C91D-DCE0-4101-850A-CD21C73C3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AB0D-B252-4617-B1FB-DCA96E93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EE81-5B8B-49A9-B4CB-888DAA52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D1D5-CD75-4563-8C99-9E8FD0C6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370D-213D-4527-BFAC-CB0A32A7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5B17-F270-41CB-ACC0-1B8FF6EE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35BA-BA7C-458D-A70E-96EDC6CC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809F-34AD-4E74-AB63-55810B77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C28F-6D35-4DED-91F2-11A08B84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51BF-16D1-45FD-B54A-EB6AFE514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 to 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a sheet of notebook paper write the date and title of this assignment. Copy the question and then compose a short (but complete) response to both of the statements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11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ll in the blank: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“Science is ___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Lif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. How would you determine whether something is living or non-liv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hat’s Liv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ist characteristics that you believe all living things sh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ive an example for each item on the l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n go back over your list and determine if any nonliving objects might have the same characteristic.  List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3T23:21:49Z</dcterms:created>
  <dc:creator>Sussex County Public Schools</dc:creator>
  <dc:description/>
  <dc:language>en-US</dc:language>
  <cp:lastModifiedBy>lellis</cp:lastModifiedBy>
  <dcterms:modified xsi:type="dcterms:W3CDTF">2010-09-07T03:39:38Z</dcterms:modified>
  <cp:revision>12</cp:revision>
  <dc:subject/>
  <dc:title>Biology WarmUp One (9/6/05)</dc:title>
</cp:coreProperties>
</file>